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стоматологије</a:t>
            </a:r>
            <a:br>
              <a:rPr sz="2800"/>
            </a:br>
            <a:br>
              <a:rPr sz="2800"/>
            </a:b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9: Стоматолошки материјал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Милош В. Никол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76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ирањ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технолошки поступак којим се могу побољшати потребна својства неког метала а штетна ублажити или изгуб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е надокнаде израђене од чистог злата идеалан су материјал за израду испуна или зубних надокнада због постоја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 злато нема потребна механичка својства (мала тврдоћа, мала чврстоћа, мала еластичнос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легирајући елементи за злато су бакар и сребро. Могу се додавати и цинк и калај чиме се снижава висока тачка топљења зла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 количине индијума и калаја додају се ако се од легуре злата очекује добра хемијска веза са керам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560" y="1197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 метали имају особину да примају атоме другог елемента у састав своје кристалне решетке. Долази до мешања две атомске врсте при чему настају чврсти раствори који се обележавају грчким словим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раствори могу бити (према начину уградње растворених атома у кристалну решетку основног метал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ск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томи метала су замењени другим међусобно сличним металом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и Ag; Pt и 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стицијск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томи метали замењени су мањим атомом другог елемента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H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924360" y="4997520"/>
            <a:ext cx="3743280" cy="186048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3146040" y="98100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раств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340720" y="2708280"/>
            <a:ext cx="45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ска структура чврстих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собна растворљивост чврстих раствора одређена је са три 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714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величина ат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афинитет компон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ност компон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28760" y="3071880"/>
            <a:ext cx="828648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ликом хлађења основног метала и легирајућих елемен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лази до делимичне или потпуне растворљивости компонената легуре тј. постоје четири случ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тпуна растворљивост (чврст раст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елимична растворљивост (делимично чврст раст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псолутна нерастворљивост (еутектику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рметална једињења (интермедијарна фаза) – типична су једињења сребра и     калаја тзв.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фаза у амалгаму за испуне и карбиди хро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ђене структуре (суперструктуре, суперрешетке)  чврстих раствора од значаја за стоматологију имају двокомпонентне легуре бакра и зл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Au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ју се сређене структуре с површински центрираном кубном решетком ти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C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C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лементарној ћелији сређеног чврстог раствора тип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C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B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и бакра  су у центрима страна а атоми злата у рогљев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04160" y="98100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ђени чврсти раств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Milos Nikolic\Documents\slide_27.jpg"/>
          <p:cNvPicPr/>
          <p:nvPr/>
        </p:nvPicPr>
        <p:blipFill>
          <a:blip r:embed="rId1"/>
          <a:stretch/>
        </p:blipFill>
        <p:spPr>
          <a:xfrm>
            <a:off x="2843280" y="4863960"/>
            <a:ext cx="3579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ост и пластичност крис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су еластично-пластична тела која се под утицајем спољних сила деформишу прво </a:t>
            </a:r>
            <a:r>
              <a:rPr b="1" lang="sr-B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о</a:t>
            </a:r>
            <a:r>
              <a:rPr b="0" lang="sr-B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 онда </a:t>
            </a:r>
            <a:r>
              <a:rPr b="1" lang="sr-B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</a:t>
            </a:r>
            <a:r>
              <a:rPr b="0" lang="sr-B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но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е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формације се огледају у томе што се деформисано тело по престанку дејства силе поново враћа у првобитни облик и димензију. Атоми се померају из равнотежног положаја али не мењају своје сусе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е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формације настају када под утицајем довољно велике силе напони у кристалу достигну критичну величину карактеристичну за сваки метал или легуру. По престанку дејства сила тело се не враћа у првобитни облик и димензиј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узрокује трајну промену облика и димензије тела. Може бити изазвана клизањем, дислокацијом, препузавањем, клизањем по границама..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талне легуре за ливење имају очекиване физичко-механичке карактеристике само у случају њихове правилне термичке обраде. Топљењем  легура губи кристалну структуру. У новој очврслој легури – одливку појављује се нова структура чија хомогеност зависи 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појединих компон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а процентуалне заступљености компонен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а неких метала са специфичним дело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ација денталних легур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ифузионо жарење је, дакле, изједначавање концентрација и успостављање равнотежног стања у легури. За време жарења атоми прелазе из области више концентрације у област ниже концент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чка обрада одли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611280" y="393372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ација денталних ле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рдњавање денталних ле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рдњавање денталних легур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у стоматологији постиже жарењем у поступку који је познат и као побољшавање или оплемењивање легуре. Побољшавају се само легуре које дају чврсте растворе и које су претходно хомогенизоване, врше се промене у структури чврстих раствора. Одливци су тврђи, чвршћи и мање ковни. Постоје 2 механизма отврдњавања денталних легура: преципитација и сређивање кристалне реше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95280" y="4797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179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179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а обрада легур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све радне поступке, изузев брушења, који се изводе на собној температури, при чему се предмет у целини или у детаљу мења. Тиме се мења његов спољни облик али и његова унутрашња струк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46836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а обрада ле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риста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особине хладно деформисаног материјала се при жарењу мењају зависно од температуре и времена жарења и могу се сврстати у три ф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љањ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рва фаза загревања и одиграва се на нижим температу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ристализациј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аљим загревањем долази до стварања клица и раста нових недеформисаних зрна на рачун деформисане структуре. Она траје све док се деформисана структура потпуно не замени новом недеформисаном структу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зр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сле процеса рекристализације наставља се процес раста з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6760" y="1213920"/>
            <a:ext cx="824724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 материјала је појава која подразумева да се метал под утицајем променљивог оптерећења временом разара и ломи при напону знатно нижем од затезне чврстоћ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 материјала је сложен процес који се одвија стварањем заморне пукотине и њеним постепеним 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2 карактеристике: настаје при напону знатно мањем од оног који изазива лом, у току раста и стварања заморне пукотине обично нема никаквих видљивих знакова који би упозорили на замор материј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копија метал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основни поступак испитивања метала и саставни је део науке о металима познат као металографија (описивање мет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071520" y="14130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су једињења велике моларне масе са структурним јединицама које се понављају, а које су повезане ковалентним вез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полимер састављен само од једне врсте мономера онда је реч о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полимеру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реакцији учествују две различите мономерне врсте као производ се добија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реагујуће врсте се зову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оном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е полимера изводимо тако што испред назива мономера додајемо префикс „поли”. Назив супституената се пише у заград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могу настати реакциј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е које могу бити слободно-радикалске и јон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рактеристике метала и ле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елементи који имају метална својства називају се металима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имају више карактеристичних особина по којима се разликују од неме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а гра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позитивност (образују електрично позитивне јо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електричана и топлотна проводљи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образовања ле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ан метални сја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гу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 везивање гас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температура топ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о агрегат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о-радикалски адициони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иницијација условљава стварање слободних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+ 1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фаза је реакција пропагације – ланчане реакције ади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+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+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терминације – прекид раста моле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ме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уј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реакције кондензације онда је потребно да на оба краја мономера постоје функционалне групе које учествују у реакц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 →  A-BA-BA-BA-Ba-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  +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  →  A-AB-BA-AB-BA-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оне полимеризације су егзотермне реакције, док су поликондензације ендотермне реакције и изводе се уз довођење топлоте. Адиционе реакције се изводе при телесној температури (у стоматолошкој прак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ли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76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полимерног ланца је врло често променљива па је тако променљива и моларна маса полимера.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арна маса полимерног узорка одређује се као средња вредност моларне масе сваког појединачног ла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средње моларне масе по бројној заступљености и средње моларне масе по масеној заступље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моларна маса појединачног моле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вредност средње моларне масе по масеној заступљености подели са вредношћу средње моларне масе по бројној заступљености добија се величина која се назива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полидисперзност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расподеле моларних мас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ја одражава расподелу моларних маса у узо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619280" y="4292640"/>
          <a:ext cx="80640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92640"/>
                    <a:ext cx="80640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Group 9"/>
          <p:cNvGrpSpPr/>
          <p:nvPr/>
        </p:nvGrpSpPr>
        <p:grpSpPr>
          <a:xfrm>
            <a:off x="1619280" y="3933720"/>
            <a:ext cx="857160" cy="837720"/>
            <a:chOff x="1619280" y="3933720"/>
            <a:chExt cx="857160" cy="837720"/>
          </a:xfrm>
        </p:grpSpPr>
        <p:sp>
          <p:nvSpPr>
            <p:cNvPr id="97" name="TextBox 4"/>
            <p:cNvSpPr/>
            <p:nvPr/>
          </p:nvSpPr>
          <p:spPr>
            <a:xfrm>
              <a:off x="1634400" y="3933720"/>
              <a:ext cx="79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"/>
            <p:cNvSpPr/>
            <p:nvPr/>
          </p:nvSpPr>
          <p:spPr>
            <a:xfrm>
              <a:off x="1619280" y="4365720"/>
              <a:ext cx="857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Object 3"/>
          <p:cNvGraphicFramePr/>
          <p:nvPr/>
        </p:nvGraphicFramePr>
        <p:xfrm>
          <a:off x="4427640" y="4292640"/>
          <a:ext cx="806400" cy="5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292640"/>
                    <a:ext cx="80640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11"/>
          <p:cNvGrpSpPr/>
          <p:nvPr/>
        </p:nvGrpSpPr>
        <p:grpSpPr>
          <a:xfrm>
            <a:off x="4442760" y="3933720"/>
            <a:ext cx="862920" cy="766080"/>
            <a:chOff x="4442760" y="3933720"/>
            <a:chExt cx="862920" cy="766080"/>
          </a:xfrm>
        </p:grpSpPr>
        <p:sp>
          <p:nvSpPr>
            <p:cNvPr id="102" name="TextBox 7"/>
            <p:cNvSpPr/>
            <p:nvPr/>
          </p:nvSpPr>
          <p:spPr>
            <a:xfrm>
              <a:off x="4448160" y="3933720"/>
              <a:ext cx="85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8"/>
            <p:cNvSpPr/>
            <p:nvPr/>
          </p:nvSpPr>
          <p:spPr>
            <a:xfrm>
              <a:off x="4442760" y="4294080"/>
              <a:ext cx="79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индекса полидисперзности варира од 1 до бесконачно и зависи од начина на који је полимеризација извр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нижа вредност то су уједначеније дужине полимерних ланаца у посматраном узор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тим вредностима утичу на својства узор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 пораст дужине низа и моларне масе повећава јачину и жилав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 материјала, а донекле и термичку отпор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су аморфни материјали,  али многи полимери у одређеном степену могу поседовати и кристалну структу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пластични и термоумрежавајући полим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пластични материјали су полимери који се састоје од полимера чији ланци не чине мрежу повезану ковалентним везама. Такви полимери могу да се топе и прерађују из растопа, уливањем у калупе или другим методама при чему се такви процеси могу много пута понављати без промене коначних својстава материјала (полиетилен, полипропилен, поли(метил метакрилат), полистирен, поликарбонати, поли(винил хлор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умрежавајући полимери су они код којих може доћи до хемијског умрежавања полимерних ланаца и добијања полимерне мреже. Умрежавање може настати и накнадним хемијским реакцијама или зрачењем видљивом или ултраљубичастом светлошћу, као и другим врстама зраче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 реакције умрежавања пол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>
            <a:lum contrast="40000"/>
          </a:blip>
          <a:srcRect l="0" t="3526" r="1944" b="3591"/>
          <a:stretch/>
        </p:blipFill>
        <p:spPr>
          <a:xfrm rot="21540000">
            <a:off x="983880" y="4896000"/>
            <a:ext cx="310212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ом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5714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еластомер настао је комбиновањем две речи –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а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што најбоље описује основно својство таквих материјала. С обзиром на то да то својство имају полимерни материјали познати као гуме, та два израза се често мешају или користе истовремено. Термоумрежавајући и термопластични полим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цил-пероксид                      дибензоил-перокс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-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тил-пероксид          дикумил-перокс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 типичних пероксида који се користе за умрежавање пол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900000" y="2924280"/>
          <a:ext cx="602316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24280"/>
                    <a:ext cx="60231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у стоматолог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ати су естри и соли акрилне киселине чија је формул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H-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назив користи и за друга једињења изведена из акрилне кисе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 таквих једињења је могућа због присутне винил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од прављења вештачких зуба, протеза и повезивања различитих матер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ци акрилних моно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2195640" y="2924280"/>
          <a:ext cx="4830480" cy="31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924280"/>
                    <a:ext cx="483048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4"/>
          <p:cNvSpPr/>
          <p:nvPr/>
        </p:nvSpPr>
        <p:spPr>
          <a:xfrm>
            <a:off x="2128320" y="3573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акр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792680" y="3573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-акр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278080" y="47242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нит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07280" y="47973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метакр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2064960" y="59500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-2-цијаноакр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илок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илоксани су једињења хемијске формул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ј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ом водоника или угљоводонична група. Има основни низ обл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-O-Si-O док се бочне групе састоје од угљоводоника. Познати су ка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чки су стаби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 су изол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како у медицини тако и у другим облас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е су токсичности, нереактивни и погодни су за употребу у стоматологији јер не представљају подлогу за раст микроорганиз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прављења ослобађа се хлороводонична киселина која ограничава употребу у in vivo услов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траоксиси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5508720" y="4437000"/>
          <a:ext cx="210348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437000"/>
                    <a:ext cx="21034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4"/>
          <p:cNvSpPr/>
          <p:nvPr/>
        </p:nvSpPr>
        <p:spPr>
          <a:xfrm>
            <a:off x="518040" y="5084640"/>
            <a:ext cx="509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[Si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n [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 → [Si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 n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улф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исни материјали се обично јављају као вискозне течности делимично полимеризованих састојака, који на себи садрже функционалне групе преко којих наступа даља полимеризација све док се не добије гумолики материј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смесе понекад могу да садрже различите пунио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а која се полимеризује је најчешће полисулфид, полисилоксан или полие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формула полисулфида 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број атома сумп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реакцијом поликондензаци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Na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n  Cl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→   [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2n 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ри су једињења која садрже више од једне етарск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ао отисни материјал у стоматолог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 већу јачину и већу хидрофилност у односу на друге поли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знатији је поли(етилен гликол) – поседује ниску токсичност. Често се хемијски везује за различита фармацеутски активна једињења и служи као носач активног медицинског средства или као основа капи за очи и различите к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оматологији се користи и имин-терминисани полиет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јих се на крају полимерних ланаца не налази хидроксилна група цећ различите групе које садрже атом аз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4284720" y="5199120"/>
          <a:ext cx="384336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5199120"/>
                    <a:ext cx="3843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ки материјали се деле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е керамичке материјале (порцелан, фина и санитарна керамика, порцелан за електротехнику, грађевинска керамика, ватростални материјали, техничко стакло, цемент ит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е керамичке материјале (чиста оксидна, неоксидна, нуклеарна, керамика за електронику, композитни керамички материјали, угљенични материјали, специјални материј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ки материјали се разликују по процентуалном односу три основне супстанце: каолина, кварца и фелдсп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тална керамика заузима само малу групу материј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ет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5573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кристалишу при преласку из течног у чврсто ст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ристализацији атоми заузимају правилан распоред и стварај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у решетк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матрању атомске структуре кристала користи се моде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е решетк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Milos Nikolic\Documents\prostorno_centrirana_kubicna_resetka.png"/>
          <p:cNvPicPr/>
          <p:nvPr/>
        </p:nvPicPr>
        <p:blipFill>
          <a:blip r:embed="rId1"/>
          <a:stretch/>
        </p:blipFill>
        <p:spPr>
          <a:xfrm>
            <a:off x="3348000" y="4292640"/>
            <a:ext cx="2808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 кер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високу температуру топ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 механичку чврсто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 отпорност на короз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оефицијент топлотног шир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у гус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е оптичке и електромагнетне карактерис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лоших особина јавља се мала вредност чврстоће на удар, изузетна кртост, мала отпорност на истезање и савијање, мала жила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9640" y="1412640"/>
            <a:ext cx="815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ки материјали су хетерогени, поликристални системи произведени синтеровањем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механичких чврстоћа увек одступају од теоријски предвиђених пре свега због појаве унутрашњих ефеката, пукотина у материјалу (основ негативних физичких особина – кртости, мале вредности чврстоће на лом)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металне керамички материјали  поседују већу вредност специфичне чврстоће, већу отпорност на смицање и већу отпорност на пластичне деформације при високим температурама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тросталност омогућава им примену у области термомеханике (ватростални калуп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труктура кер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труктура производа традиционалне керамике садржи четири основна елемента: кристалну фазу, стакласту фазу, неизреаговалу фазу и п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производа ти елементи су распоређени у различитим однос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и керамички материјали, посебно дентални, не садрже стакласту ф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труктура се састоји од одређених кристалних фаза или је мономинерална, када су у питању супституциони или интерстицијски чврсти раствори или одређена хемијска једињ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одређивање карактеристика микроструктуре керамике подразум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о одређивање фазног састава, укључујући и п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о одређивање удела присутних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зацију сваке фазе, облика, величине, оријентације зрна и расподеле величине з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0" y="4410000"/>
            <a:ext cx="4500720" cy="244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стално стањ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и конституенти керамике сложенији су од кристала метала јер нису елементи већ хемијска једињ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оидно стањ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ерамичке колоидно дисперзне материје за микроструктурну основу имају језгра колоидних мицела чврстих неорганских м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класто стањ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ласто чврсто стање има структуру која се налази између аморфног и кристалног 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ер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10440" y="4508640"/>
            <a:ext cx="46141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стак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Типична полазна 3-координатна (просторн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а мре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При загревању у стакластном стању јо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тј. назире се кристална мре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- Мрежа је раскинута додавањем модификат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уграђује у мрежу и форми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ста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молекулске везе у кристал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које држе атоме у кристалу на одређеним местима могу бити по каракт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в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арне хемиј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ls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су усмерене (ковалентна и водонична) или неусмерене (јонска, метална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lsov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 простору. У кристалу се најчешће не појављује само један тип в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веза је једна од најважнијих везивања у керамичким материјалима. Остварена је постојањем металних и неметалних атома у решетки. Кристали са јонском везом су крти, ломљиви и имају средње до високе температуре топљења. Назива с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керам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тип везе дају тврђе, чвршће керамичке материјале, са високом температуром топљења. Назива с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керам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ки поступ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39640" y="2349360"/>
            <a:ext cx="166212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сиров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755800" y="2421000"/>
            <a:ext cx="1766880" cy="1150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ов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076720" y="2349360"/>
            <a:ext cx="155916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е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36000" y="2349360"/>
            <a:ext cx="145548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9"/>
          <p:cNvSpPr/>
          <p:nvPr/>
        </p:nvSpPr>
        <p:spPr>
          <a:xfrm>
            <a:off x="2050920" y="2781360"/>
            <a:ext cx="946440" cy="28872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0"/>
          <p:cNvSpPr/>
          <p:nvPr/>
        </p:nvSpPr>
        <p:spPr>
          <a:xfrm>
            <a:off x="6372360" y="2852640"/>
            <a:ext cx="1039680" cy="289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1"/>
          <p:cNvSpPr/>
          <p:nvPr/>
        </p:nvSpPr>
        <p:spPr>
          <a:xfrm>
            <a:off x="4427640" y="2781360"/>
            <a:ext cx="846000" cy="4125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14200" y="4149720"/>
            <a:ext cx="3853080" cy="2273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4067280" y="500076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зрна поликристалног узор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ице означавају смер померања границе зр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је супротан кретању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синтезе керамичких прахова: процеси копреципитације, сол-гел процеси, криохемијски процеси, хидротермални процеси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м синтезом керамичких прахова добијају се врло хомогени, хемијски веома чисти монодисперзни прахови често сложеног хемијског саст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ипреме масе приступа се обликовању материјала. Керамички обликовани предмети представљају систем фино дисперзних честица сировина комбинован са системом капилара, микропора и течном фазом, најчешће во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ење, истискивање и пресо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ци обраде пре пе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ење обликованих керамичких материјала је сложена процедура симултаног преноса масе и топлоте у хетерогеном полидисперзном систему материјал-вода-вазд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м топлоте смањује се влажност материјала путем испаравања при чему се повећава чврстоћа. Вода се транспортује путем капилара на површину где слободно испа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 брзине дифузије и брзине испар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1700280"/>
            <a:ext cx="842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 кристала представља се скупом имагинарних тачака које су распорођене у простору исто као атоми у криста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аквог скупа тачака долази се када се део простора помоћу три система паралелних равни , чиме се добија мноштво ћелија једнаког облика величине и орјент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ћелије једне просторне ћелије су идентич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у и елементе ћелије описују векто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 кристалне решетке су вектори (a, b, c) и углови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ет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ки процеси у току пе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на обрада, загревање и жарење система у току одређеног времена и одређеног режима промене темпера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ди се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</a:t>
            </a:r>
            <a:r>
              <a:rPr b="1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при коме се компактни скуп финих честица трансформише у чврсто непорозно поликристално  тело путем загревања и жарења у одређеном времену при одговарајућим температурама које су ниже од температуре топљења полазног праха.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дензификациј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ровање у чврстој фа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ровање у присуству течне фазе, витрифик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ровање под притиском, топло прес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ровање је процес квантитативне и квалитативне природе контакта између честица праха, изазване топлотном покретљивошћу атома или јона и узајамним деловањем честица са атмосфером синтеровања које је праћено повећањем контактне површине, смањењем порозности и повећањем механичке чврстоће синтерованог т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нтеровању у чврстом стању долази до промене облика и величине пора тј. простор се уклапа на нови нач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 се јављају као: отворене , полуотворене и затвор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Физичке промене у току синтеровања 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мена облика и пора у материјалу који се синтеру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аст з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цеси секундарне рекристал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карактеристике композитних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1916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ни материјал се најчешће дефинише као комбинација два или више различитих материјала који сједињени чине много бољи производ са вишеструко бољим особинама од сваког појединачно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се изучавати и развијати у атомском (нано), микро и макро домену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C:\Users\Milos Nikolic\Documents\2245_001-1.jpg"/>
          <p:cNvPicPr/>
          <p:nvPr/>
        </p:nvPicPr>
        <p:blipFill>
          <a:blip r:embed="rId1"/>
          <a:stretch/>
        </p:blipFill>
        <p:spPr>
          <a:xfrm>
            <a:off x="2916360" y="4581360"/>
            <a:ext cx="2695320" cy="20862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5"/>
          <p:cNvSpPr/>
          <p:nvPr/>
        </p:nvSpPr>
        <p:spPr>
          <a:xfrm flipV="1">
            <a:off x="4932360" y="4868640"/>
            <a:ext cx="50328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5461560" y="458136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ална фаза (матр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8"/>
          <p:cNvSpPr/>
          <p:nvPr/>
        </p:nvSpPr>
        <p:spPr>
          <a:xfrm flipV="1">
            <a:off x="4356000" y="5157360"/>
            <a:ext cx="151128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5872680" y="50133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нтинуалн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унилац, ојачање</a:t>
            </a:r>
            <a:r>
              <a:rPr b="0" lang="sr-B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5"/>
          <p:cNvSpPr/>
          <p:nvPr/>
        </p:nvSpPr>
        <p:spPr>
          <a:xfrm flipV="1">
            <a:off x="6443640" y="5805360"/>
            <a:ext cx="0" cy="144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7"/>
          <p:cNvSpPr/>
          <p:nvPr/>
        </p:nvSpPr>
        <p:spPr>
          <a:xfrm>
            <a:off x="4427640" y="5877000"/>
            <a:ext cx="2232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9"/>
          <p:cNvSpPr/>
          <p:nvPr/>
        </p:nvSpPr>
        <p:spPr>
          <a:xfrm>
            <a:off x="4716360" y="5732640"/>
            <a:ext cx="194328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6669360" y="580536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ов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2"/>
          <p:cNvSpPr/>
          <p:nvPr/>
        </p:nvSpPr>
        <p:spPr>
          <a:xfrm flipH="1" flipV="1">
            <a:off x="3492360" y="4581000"/>
            <a:ext cx="64800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3"/>
          <p:cNvSpPr/>
          <p:nvPr/>
        </p:nvSpPr>
        <p:spPr>
          <a:xfrm>
            <a:off x="2130480" y="4005360"/>
            <a:ext cx="20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фазна обл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генс за везивање</a:t>
            </a:r>
            <a:r>
              <a:rPr b="0" lang="sr-B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189720" y="53006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конституен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них матер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композитни материјали се деле у три категор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категорија се односи на материјале димензија у облику честица, танких жица и филмова, који могу бити изоловани тј. независни или депоновани на одговарајућим супстр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категорија се формира у одговарајућим областима површина основног матер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категорија се односи на наноструктурне материјале који су настали одговарајућом прерасподелом разнородних атома и молекула у оквиру основног матер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457200" y="1062000"/>
            <a:ext cx="8229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карактеристике композитних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томском нивоу металне легуре и полимерни материјали могу се називати композитним јер се састоје од различитих атомских група и припадају трећој груп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икроструктурном нивоу металне легуре као што су угљенични челици, чија се структура састоји од јасно раздвојених и видљивих фаза ферита и перлита, такође се могу сматрати композитним материјал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лекулском и микроструктурном нивоу хумане кости и зуби се могу посматрати као природни композитни материјали различитих ниво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а и оштећена тврда зубна ткива се након одређених терапијских поступака надокнађују одговарајућим вештачким материјалом који је сличан природном (дентални композитни материјал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6029280" cy="2874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1586880" y="485784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нанокомпозитних материјала са различит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 паковања атома и веза између њ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структуре композитних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00280" y="2214720"/>
            <a:ext cx="21434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ни материј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"/>
          <p:cNvSpPr/>
          <p:nvPr/>
        </p:nvSpPr>
        <p:spPr>
          <a:xfrm flipH="1">
            <a:off x="4000320" y="2571840"/>
            <a:ext cx="571320" cy="214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8"/>
          <p:cNvSpPr/>
          <p:nvPr/>
        </p:nvSpPr>
        <p:spPr>
          <a:xfrm>
            <a:off x="4571280" y="2571840"/>
            <a:ext cx="500040" cy="214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071880" y="2786040"/>
            <a:ext cx="10713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ална фа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929120" y="2786040"/>
            <a:ext cx="107172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а фа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2"/>
          <p:cNvSpPr/>
          <p:nvPr/>
        </p:nvSpPr>
        <p:spPr>
          <a:xfrm flipH="1">
            <a:off x="2356920" y="3143160"/>
            <a:ext cx="71460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4"/>
          <p:cNvSpPr/>
          <p:nvPr/>
        </p:nvSpPr>
        <p:spPr>
          <a:xfrm flipH="1">
            <a:off x="3571560" y="3143160"/>
            <a:ext cx="3492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4214160" y="3143160"/>
            <a:ext cx="21420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8"/>
          <p:cNvSpPr/>
          <p:nvPr/>
        </p:nvSpPr>
        <p:spPr>
          <a:xfrm>
            <a:off x="6000840" y="3143160"/>
            <a:ext cx="57132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20"/>
          <p:cNvSpPr/>
          <p:nvPr/>
        </p:nvSpPr>
        <p:spPr>
          <a:xfrm flipH="1">
            <a:off x="5143680" y="3143160"/>
            <a:ext cx="14256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1428840" y="3357720"/>
            <a:ext cx="107136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2643120" y="3429000"/>
            <a:ext cx="107172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3786120" y="3429000"/>
            <a:ext cx="107172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4929120" y="3429000"/>
            <a:ext cx="107172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6500880" y="3429000"/>
            <a:ext cx="107136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7"/>
          <p:cNvSpPr/>
          <p:nvPr/>
        </p:nvSpPr>
        <p:spPr>
          <a:xfrm flipH="1">
            <a:off x="356760" y="3786120"/>
            <a:ext cx="1071720" cy="357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9"/>
          <p:cNvSpPr/>
          <p:nvPr/>
        </p:nvSpPr>
        <p:spPr>
          <a:xfrm flipH="1">
            <a:off x="2284560" y="3787920"/>
            <a:ext cx="144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31"/>
          <p:cNvSpPr/>
          <p:nvPr/>
        </p:nvSpPr>
        <p:spPr>
          <a:xfrm>
            <a:off x="6000840" y="3857760"/>
            <a:ext cx="285840" cy="571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3"/>
          <p:cNvSpPr/>
          <p:nvPr/>
        </p:nvSpPr>
        <p:spPr>
          <a:xfrm flipH="1">
            <a:off x="5000760" y="3929040"/>
            <a:ext cx="7128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0" y="4214880"/>
            <a:ext cx="107172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1785960" y="4286160"/>
            <a:ext cx="121428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пластич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4643280" y="4357800"/>
            <a:ext cx="107172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ез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6143760" y="4500720"/>
            <a:ext cx="107136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кид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9"/>
          <p:cNvSpPr/>
          <p:nvPr/>
        </p:nvSpPr>
        <p:spPr>
          <a:xfrm>
            <a:off x="7572240" y="3857760"/>
            <a:ext cx="428760" cy="214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7786800" y="4071960"/>
            <a:ext cx="107136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л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ми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44"/>
          <p:cNvSpPr/>
          <p:nvPr/>
        </p:nvSpPr>
        <p:spPr>
          <a:xfrm>
            <a:off x="536400" y="4643280"/>
            <a:ext cx="35280" cy="500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46"/>
          <p:cNvSpPr/>
          <p:nvPr/>
        </p:nvSpPr>
        <p:spPr>
          <a:xfrm flipH="1">
            <a:off x="2355840" y="4788000"/>
            <a:ext cx="1440" cy="357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8"/>
          <p:cNvSpPr/>
          <p:nvPr/>
        </p:nvSpPr>
        <p:spPr>
          <a:xfrm>
            <a:off x="0" y="5214960"/>
            <a:ext cx="107172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ксил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стр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9"/>
          <p:cNvSpPr/>
          <p:nvPr/>
        </p:nvSpPr>
        <p:spPr>
          <a:xfrm>
            <a:off x="2071800" y="5214960"/>
            <a:ext cx="107136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П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51"/>
          <p:cNvSpPr/>
          <p:nvPr/>
        </p:nvSpPr>
        <p:spPr>
          <a:xfrm flipH="1">
            <a:off x="5000760" y="4859280"/>
            <a:ext cx="144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53"/>
          <p:cNvSpPr/>
          <p:nvPr/>
        </p:nvSpPr>
        <p:spPr>
          <a:xfrm flipH="1">
            <a:off x="6643800" y="5002200"/>
            <a:ext cx="144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55"/>
          <p:cNvSpPr/>
          <p:nvPr/>
        </p:nvSpPr>
        <p:spPr>
          <a:xfrm>
            <a:off x="5000760" y="5286240"/>
            <a:ext cx="78552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57"/>
          <p:cNvSpPr/>
          <p:nvPr/>
        </p:nvSpPr>
        <p:spPr>
          <a:xfrm>
            <a:off x="5786280" y="5286240"/>
            <a:ext cx="100044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59"/>
          <p:cNvSpPr/>
          <p:nvPr/>
        </p:nvSpPr>
        <p:spPr>
          <a:xfrm flipH="1">
            <a:off x="4571640" y="5286240"/>
            <a:ext cx="42876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1"/>
          <p:cNvSpPr/>
          <p:nvPr/>
        </p:nvSpPr>
        <p:spPr>
          <a:xfrm flipH="1">
            <a:off x="5785920" y="5288040"/>
            <a:ext cx="180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63"/>
          <p:cNvSpPr/>
          <p:nvPr/>
        </p:nvSpPr>
        <p:spPr>
          <a:xfrm flipH="1">
            <a:off x="6428880" y="5288040"/>
            <a:ext cx="1800" cy="357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65"/>
          <p:cNvSpPr/>
          <p:nvPr/>
        </p:nvSpPr>
        <p:spPr>
          <a:xfrm>
            <a:off x="6786720" y="5286240"/>
            <a:ext cx="57132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6"/>
          <p:cNvSpPr/>
          <p:nvPr/>
        </p:nvSpPr>
        <p:spPr>
          <a:xfrm>
            <a:off x="3571920" y="5643720"/>
            <a:ext cx="107136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7"/>
          <p:cNvSpPr/>
          <p:nvPr/>
        </p:nvSpPr>
        <p:spPr>
          <a:xfrm>
            <a:off x="4929120" y="5643720"/>
            <a:ext cx="107172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 влак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8"/>
          <p:cNvSpPr/>
          <p:nvPr/>
        </p:nvSpPr>
        <p:spPr>
          <a:xfrm>
            <a:off x="6143760" y="5643720"/>
            <a:ext cx="107136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смерна влак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9"/>
          <p:cNvSpPr/>
          <p:nvPr/>
        </p:nvSpPr>
        <p:spPr>
          <a:xfrm>
            <a:off x="7358040" y="5572080"/>
            <a:ext cx="107172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трази за новим композитним материјалима стално се јављају нове комбинације између основних класа материјала: метала, керамике и полим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етни (smart)  материјали су комплексни материјални системи састављени од неколико компоенента које обављају више функција које су аналогне хуманом сист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езоелектрични, магнетно осетљиви, материјали који памте облик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mem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ермоелектрични,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реолошки флуи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мониторинг у здравству, активну контролу и за самообнављање структурних и функционалних матер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композитних материјала у зависности од матрице врши се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чке композите (метални, керамички, полимерни и карбонс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е композите са матрицом од лигнина (дрво) или колагена (биокомпоз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048360" cy="35290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1835280" y="4724280"/>
            <a:ext cx="489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структу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некристални термопластични пол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делимично кристални термопластични пол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потпуно умрежени термоактивни пол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2957400" cy="1906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012200" y="1341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модел просторне реш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елементарна ћелија и параметри реш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26920" y="2492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кристалне структуре могу се пр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 у 14 врста јединичних ћелија разврстаних у 7 основних кристалних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3141720"/>
          <a:ext cx="7632720" cy="3538440"/>
        </p:xfrm>
        <a:graphic>
          <a:graphicData uri="http://schemas.openxmlformats.org/drawingml/2006/table">
            <a:tbl>
              <a:tblPr/>
              <a:tblGrid>
                <a:gridCol w="2544840"/>
                <a:gridCol w="2543040"/>
                <a:gridCol w="254484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стални сис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и ћел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ови ћел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b =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90 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гонал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b ≠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90 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торомбич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≠ b ≠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90 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клинич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≠ b ≠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90 °,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≠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0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клинич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≠ b ≠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≠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≠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≠ 90 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ксагонал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b ≠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90 °,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20 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боедарс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b =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≠ 90 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3638520"/>
            <a:ext cx="4140360" cy="32194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тални композитни материј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састојци денталних композитних материјала су органска компонента или матрица и неорганска компонента или пунило од чијих односа зависе физичка и хемијска својства композ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матрица се базира најчешће на метакрилној хемији тако да је најчешће у употреб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-GMA, EBPDMA, UDMA, TEGMA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м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4030560" y="5589720"/>
            <a:ext cx="49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промене структуре током полимериз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окрилатних мономера у умрежени полимер који садржи остатке нереагованих мономера са мноштвом кратких  метокрилатних група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780000" y="364500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ом слободних радикала мономерних матрица формира се тродимензионална мре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метали осим живе и мангана кристалишу у једној од три типичне металне структур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центрирана кубна (Au, Pt, Pd, Ag, 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о центрирана  (Co, Cr, Mo, Fe, 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гонална (Zn, Ti,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63640" y="3325680"/>
            <a:ext cx="5977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764640"/>
            <a:ext cx="8893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пљени метал очвршћава стварањем кристалних клица и растом крис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дошло до кристализације неопходно 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стоје кристалне к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је растоп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хлађ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 топлота одводи из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859280" y="2781360"/>
            <a:ext cx="403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геног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арања клица долази стварањем клица на зидовима калупа код чистих метала или додавањем неких метала са специфичним деловањем (платина и молибден  код денталних легу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789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365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е клице стварају се </a:t>
            </a:r>
            <a:r>
              <a:rPr b="1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о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настају спонтано у растопу који је у свим деловима истог састава и енерг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537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365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 кристалних клица често игра и „нечистоћа”  која је присутна у расто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572000" y="5373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9640" indent="-269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рој зрна утичу број клица (центара кристализације) и начин хлађ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245280" y="3716280"/>
            <a:ext cx="2898720" cy="2676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79280" y="54936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границу кристал-растоп атоми прелазе истовремено у оба смера. При очвршћавању метала атоми се крећу из растопа у кристале, док кристали расту тако што им се припајају атоми из раст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ристала започиње из кристалних клица, одвија се у свим правцима и завршава се сударањем, контактом са суседним кристалима, односно зрнима у ра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и који настају из растопа често подсећају на мале јелке и називају се </a:t>
            </a:r>
            <a:r>
              <a:rPr b="1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дритима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су поликристални материј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040360" y="597996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 раста примарног кристала 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м, секундарним и терцијарн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79280" y="5516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мноштва различито оријентисаних кристала неправилног облика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их зрна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зрна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83920"/>
            <a:ext cx="8334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метални материјали који се састоје од основног метала и једног или више легирајућих елеме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ирајући елементи су метали, и понекад мале количине неме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и неметали који улазе у састав легура =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е лег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броја компонената разликују се: бинарне, тернарне, кватернерне  легуре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легура се приказуј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ним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ским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н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легура може бити једнофазна, двофазна, трофазна или вишефаз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фазе су чврсти раствори и интерметална једињ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8-01-31T11:33:27Z</dcterms:modified>
  <cp:revision>66</cp:revision>
  <dc:subject/>
  <dc:title>Slide 1</dc:title>
</cp:coreProperties>
</file>